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eopardy.wav" ContentType="audio/x-wav"/>
  <Override PartName="/ppt/media/jeopardy1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BF54-7BD7-43BC-8EED-805377A41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5BCA-DDD5-44A8-95FC-F3A9F957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676-0892-4651-90C4-C5F16D63E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B58E1-32D4-4675-BBB6-2CF8885CF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39645-F3CF-4FE1-9BA7-D9EBE17F9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B2E8-9A75-48B9-9382-D02B11A61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FD93C-FA41-4134-9EC5-55FBC251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E802-CF25-435E-9FCD-2372FBBD0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9AD36-5774-465D-A66D-BDC5E39E4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D43C-C06F-4C9D-80B3-E562D6592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20109-BD63-4EFE-9C63-44D457CBC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62D8-F550-432B-A6F4-55E6EEEF8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0FC0-53FF-471F-92B0-3CB407F7A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B4808-FC6C-4B39-B014-F434991EC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B3397-6175-49C5-B116-685BABF96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8E20-83B3-4933-B1DD-1F2651C03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B5880-A139-4EEE-B50D-8DB76C432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E511-AE5F-4CB1-968F-50EDD3EEF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F70D2-27DA-4605-857C-B041318C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D2F2-4849-4029-AC3C-0CE47328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430E-101D-41BB-9D56-67DE80AA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A8C5-D3EE-441A-9B6D-F6C758AF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9D2D-8D9A-4A0E-A61D-E066A7465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047E-9BE4-4097-960A-DB398EDD7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7010-CACE-4336-9652-00361EE8C99B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cc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cc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cc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cc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980E7-3713-4852-B731-520323973A89}" type="slidenum">
              <a:rPr b="0" lang="en-US" sz="1400" spc="-1" strike="noStrike">
                <a:solidFill>
                  <a:srgbClr val="ffcc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3.xml"/><Relationship Id="rId3" Type="http://schemas.openxmlformats.org/officeDocument/2006/relationships/slide" Target="slide19.xml"/><Relationship Id="rId4" Type="http://schemas.openxmlformats.org/officeDocument/2006/relationships/hyperlink" Target="file:///tmp/home/.config/libreoffice/4/user/gallery/COSMIC.WAV" TargetMode="External"/><Relationship Id="rId5" Type="http://schemas.openxmlformats.org/officeDocument/2006/relationships/slide" Target="slide5.xml"/><Relationship Id="rId6" Type="http://schemas.openxmlformats.org/officeDocument/2006/relationships/slide" Target="slide4.xml"/><Relationship Id="rId7" Type="http://schemas.openxmlformats.org/officeDocument/2006/relationships/slide" Target="slide2.xml"/><Relationship Id="rId8" Type="http://schemas.openxmlformats.org/officeDocument/2006/relationships/slide" Target="slide3.xml"/><Relationship Id="rId9" Type="http://schemas.openxmlformats.org/officeDocument/2006/relationships/slide" Target="slide4.xml"/><Relationship Id="rId10" Type="http://schemas.openxmlformats.org/officeDocument/2006/relationships/slide" Target="slide5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" Target="slide10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slide" Target="slide15.xml"/><Relationship Id="rId17" Type="http://schemas.openxmlformats.org/officeDocument/2006/relationships/slide" Target="slide16.xml"/><Relationship Id="rId18" Type="http://schemas.openxmlformats.org/officeDocument/2006/relationships/slide" Target="slide17.xml"/><Relationship Id="rId19" Type="http://schemas.openxmlformats.org/officeDocument/2006/relationships/slide" Target="slide17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1.xml"/><Relationship Id="rId26" Type="http://schemas.openxmlformats.org/officeDocument/2006/relationships/slide" Target="slide22.xml"/><Relationship Id="rId27" Type="http://schemas.openxmlformats.org/officeDocument/2006/relationships/slide" Target="slide23.xml"/><Relationship Id="rId28" Type="http://schemas.openxmlformats.org/officeDocument/2006/relationships/slide" Target="slide24.xml"/><Relationship Id="rId29" Type="http://schemas.openxmlformats.org/officeDocument/2006/relationships/slide" Target="slide25.xml"/><Relationship Id="rId30" Type="http://schemas.openxmlformats.org/officeDocument/2006/relationships/slide" Target="slide27.xml"/><Relationship Id="rId31" Type="http://schemas.openxmlformats.org/officeDocument/2006/relationships/slide" Target="slide28.xml"/><Relationship Id="rId32" Type="http://schemas.openxmlformats.org/officeDocument/2006/relationships/slide" Target="slide29.xml"/><Relationship Id="rId33" Type="http://schemas.openxmlformats.org/officeDocument/2006/relationships/slide" Target="slide30.xml"/><Relationship Id="rId34" Type="http://schemas.openxmlformats.org/officeDocument/2006/relationships/slide" Target="slide31.xml"/><Relationship Id="rId35" Type="http://schemas.openxmlformats.org/officeDocument/2006/relationships/slide" Target="slide32.xml"/><Relationship Id="rId36" Type="http://schemas.openxmlformats.org/officeDocument/2006/relationships/audio" Target="../media/jeopardy.wav"/><Relationship Id="rId3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jeopardy1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114480" y="1716480"/>
            <a:ext cx="1291680" cy="528120"/>
          </a:xfrm>
          <a:custGeom>
            <a:avLst/>
            <a:gdLst>
              <a:gd name="textAreaLeft" fmla="*/ 34200 w 1291680"/>
              <a:gd name="textAreaRight" fmla="*/ 1257480 w 129168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52808" h="21600">
                <a:moveTo>
                  <a:pt x="0" y="0"/>
                </a:moveTo>
                <a:lnTo>
                  <a:pt x="52808" y="0"/>
                </a:lnTo>
                <a:lnTo>
                  <a:pt x="52808" y="21600"/>
                </a:lnTo>
                <a:lnTo>
                  <a:pt x="0" y="21600"/>
                </a:lnTo>
                <a:close/>
              </a:path>
              <a:path fill="lightenLess" w="52808" h="21600">
                <a:moveTo>
                  <a:pt x="0" y="0"/>
                </a:moveTo>
                <a:lnTo>
                  <a:pt x="52808" y="0"/>
                </a:lnTo>
                <a:lnTo>
                  <a:pt x="51408" y="1400"/>
                </a:lnTo>
                <a:lnTo>
                  <a:pt x="1400" y="1400"/>
                </a:lnTo>
                <a:close/>
              </a:path>
              <a:path fill="darken" w="52808" h="21600">
                <a:moveTo>
                  <a:pt x="52808" y="0"/>
                </a:moveTo>
                <a:lnTo>
                  <a:pt x="52808" y="21600"/>
                </a:lnTo>
                <a:lnTo>
                  <a:pt x="51408" y="20200"/>
                </a:lnTo>
                <a:lnTo>
                  <a:pt x="51408" y="1400"/>
                </a:lnTo>
                <a:close/>
              </a:path>
              <a:path fill="darkenLess" w="52808" h="21600">
                <a:moveTo>
                  <a:pt x="528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408" y="20200"/>
                </a:lnTo>
                <a:close/>
              </a:path>
              <a:path fill="lighten" w="528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General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1522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26920" y="441000"/>
            <a:ext cx="7204320" cy="11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103"/>
                </a:solidFill>
                <a:latin typeface="Arial Black"/>
              </a:rPr>
              <a:t>Vocabulary Challenge</a:t>
            </a:r>
            <a:endParaRPr b="0" lang="en-US" sz="48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2" name=""/>
          <p:cNvSpPr/>
          <p:nvPr/>
        </p:nvSpPr>
        <p:spPr>
          <a:xfrm>
            <a:off x="3048120" y="52578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648320" y="51814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48120" y="44197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0481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999040" y="1716480"/>
            <a:ext cx="1594080" cy="528120"/>
          </a:xfrm>
          <a:custGeom>
            <a:avLst/>
            <a:gdLst>
              <a:gd name="textAreaLeft" fmla="*/ 34200 w 1594080"/>
              <a:gd name="textAreaRight" fmla="*/ 1559880 w 159408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65168" h="21600">
                <a:moveTo>
                  <a:pt x="0" y="0"/>
                </a:moveTo>
                <a:lnTo>
                  <a:pt x="65168" y="0"/>
                </a:lnTo>
                <a:lnTo>
                  <a:pt x="65168" y="21600"/>
                </a:lnTo>
                <a:lnTo>
                  <a:pt x="0" y="21600"/>
                </a:lnTo>
                <a:close/>
              </a:path>
              <a:path fill="lightenLess" w="65168" h="21600">
                <a:moveTo>
                  <a:pt x="0" y="0"/>
                </a:moveTo>
                <a:lnTo>
                  <a:pt x="65168" y="0"/>
                </a:lnTo>
                <a:lnTo>
                  <a:pt x="63768" y="1400"/>
                </a:lnTo>
                <a:lnTo>
                  <a:pt x="1400" y="1400"/>
                </a:lnTo>
                <a:close/>
              </a:path>
              <a:path fill="darken" w="65168" h="21600">
                <a:moveTo>
                  <a:pt x="65168" y="0"/>
                </a:moveTo>
                <a:lnTo>
                  <a:pt x="65168" y="21600"/>
                </a:lnTo>
                <a:lnTo>
                  <a:pt x="63768" y="20200"/>
                </a:lnTo>
                <a:lnTo>
                  <a:pt x="63768" y="1400"/>
                </a:lnTo>
                <a:close/>
              </a:path>
              <a:path fill="darkenLess" w="65168" h="21600">
                <a:moveTo>
                  <a:pt x="651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768" y="20200"/>
                </a:lnTo>
                <a:close/>
              </a:path>
              <a:path fill="lighten" w="651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Nonfictio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0958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0958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6960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645320" y="1538280"/>
            <a:ext cx="1498680" cy="947880"/>
          </a:xfrm>
          <a:custGeom>
            <a:avLst/>
            <a:gdLst>
              <a:gd name="textAreaLeft" fmla="*/ 61200 w 1498680"/>
              <a:gd name="textAreaRight" fmla="*/ 1437480 w 1498680"/>
              <a:gd name="textAreaTop" fmla="*/ 61200 h 947880"/>
              <a:gd name="textAreaBottom" fmla="*/ 886680 h 947880"/>
            </a:gdLst>
            <a:ahLst/>
            <a:rect l="textAreaLeft" t="textAreaTop" r="textAreaRight" b="textAreaBottom"/>
            <a:pathLst>
              <a:path w="34147" h="21600">
                <a:moveTo>
                  <a:pt x="0" y="0"/>
                </a:moveTo>
                <a:lnTo>
                  <a:pt x="34147" y="0"/>
                </a:lnTo>
                <a:lnTo>
                  <a:pt x="34147" y="21600"/>
                </a:lnTo>
                <a:lnTo>
                  <a:pt x="0" y="21600"/>
                </a:lnTo>
                <a:close/>
              </a:path>
              <a:path fill="lightenLess" w="34147" h="21600">
                <a:moveTo>
                  <a:pt x="0" y="0"/>
                </a:moveTo>
                <a:lnTo>
                  <a:pt x="34147" y="0"/>
                </a:lnTo>
                <a:lnTo>
                  <a:pt x="32747" y="1400"/>
                </a:lnTo>
                <a:lnTo>
                  <a:pt x="1400" y="1400"/>
                </a:lnTo>
                <a:close/>
              </a:path>
              <a:path fill="darken" w="34147" h="21600">
                <a:moveTo>
                  <a:pt x="34147" y="0"/>
                </a:moveTo>
                <a:lnTo>
                  <a:pt x="34147" y="21600"/>
                </a:lnTo>
                <a:lnTo>
                  <a:pt x="32747" y="20200"/>
                </a:lnTo>
                <a:lnTo>
                  <a:pt x="32747" y="1400"/>
                </a:lnTo>
                <a:close/>
              </a:path>
              <a:path fill="darkenLess" w="34147" h="21600">
                <a:moveTo>
                  <a:pt x="341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47" y="20200"/>
                </a:lnTo>
                <a:close/>
              </a:path>
              <a:path fill="lighten" w="341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sumer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58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0958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0958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4" name="">
            <a:hlinkClick r:id="rId2" action="ppaction://hlinksldjump"/>
          </p:cNvPr>
          <p:cNvSpPr/>
          <p:nvPr/>
        </p:nvSpPr>
        <p:spPr>
          <a:xfrm>
            <a:off x="30481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048120" y="35812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738680" y="1716480"/>
            <a:ext cx="1114920" cy="528120"/>
          </a:xfrm>
          <a:custGeom>
            <a:avLst/>
            <a:gdLst>
              <a:gd name="textAreaLeft" fmla="*/ 34200 w 1114920"/>
              <a:gd name="textAreaRight" fmla="*/ 1080720 w 111492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5584" h="21600">
                <a:moveTo>
                  <a:pt x="0" y="0"/>
                </a:moveTo>
                <a:lnTo>
                  <a:pt x="45584" y="0"/>
                </a:lnTo>
                <a:lnTo>
                  <a:pt x="45584" y="21600"/>
                </a:lnTo>
                <a:lnTo>
                  <a:pt x="0" y="21600"/>
                </a:lnTo>
                <a:close/>
              </a:path>
              <a:path fill="lightenLess" w="45584" h="21600">
                <a:moveTo>
                  <a:pt x="0" y="0"/>
                </a:moveTo>
                <a:lnTo>
                  <a:pt x="45584" y="0"/>
                </a:lnTo>
                <a:lnTo>
                  <a:pt x="44184" y="1400"/>
                </a:lnTo>
                <a:lnTo>
                  <a:pt x="1400" y="1400"/>
                </a:lnTo>
                <a:close/>
              </a:path>
              <a:path fill="darken" w="45584" h="21600">
                <a:moveTo>
                  <a:pt x="45584" y="0"/>
                </a:moveTo>
                <a:lnTo>
                  <a:pt x="45584" y="21600"/>
                </a:lnTo>
                <a:lnTo>
                  <a:pt x="44184" y="20200"/>
                </a:lnTo>
                <a:lnTo>
                  <a:pt x="44184" y="1400"/>
                </a:lnTo>
                <a:close/>
              </a:path>
              <a:path fill="darkenLess" w="45584" h="21600">
                <a:moveTo>
                  <a:pt x="455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184" y="20200"/>
                </a:lnTo>
                <a:close/>
              </a:path>
              <a:path fill="lighten" w="455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Fiction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6483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8" name="">
            <a:hlinkClick r:id="rId3" action="ppaction://hlinksldjump"/>
          </p:cNvPr>
          <p:cNvSpPr/>
          <p:nvPr/>
        </p:nvSpPr>
        <p:spPr>
          <a:xfrm>
            <a:off x="4648320" y="35053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648320" y="43434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46483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6960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960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960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60020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6" name="">
            <a:hlinkClick r:id="rId4"/>
          </p:cNvPr>
          <p:cNvSpPr/>
          <p:nvPr/>
        </p:nvSpPr>
        <p:spPr>
          <a:xfrm>
            <a:off x="160020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7" name="">
            <a:hlinkClick r:id="rId5" action="ppaction://hlinksldjump"/>
          </p:cNvPr>
          <p:cNvSpPr/>
          <p:nvPr/>
        </p:nvSpPr>
        <p:spPr>
          <a:xfrm>
            <a:off x="15228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522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60020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045240" y="1748160"/>
            <a:ext cx="1215360" cy="528120"/>
          </a:xfrm>
          <a:custGeom>
            <a:avLst/>
            <a:gdLst>
              <a:gd name="textAreaLeft" fmla="*/ 34200 w 1215360"/>
              <a:gd name="textAreaRight" fmla="*/ 1181160 w 12153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49689" h="21600">
                <a:moveTo>
                  <a:pt x="0" y="0"/>
                </a:moveTo>
                <a:lnTo>
                  <a:pt x="49689" y="0"/>
                </a:lnTo>
                <a:lnTo>
                  <a:pt x="49689" y="21600"/>
                </a:lnTo>
                <a:lnTo>
                  <a:pt x="0" y="21600"/>
                </a:lnTo>
                <a:close/>
              </a:path>
              <a:path fill="lightenLess" w="49689" h="21600">
                <a:moveTo>
                  <a:pt x="0" y="0"/>
                </a:moveTo>
                <a:lnTo>
                  <a:pt x="49689" y="0"/>
                </a:lnTo>
                <a:lnTo>
                  <a:pt x="48289" y="1400"/>
                </a:lnTo>
                <a:lnTo>
                  <a:pt x="1400" y="1400"/>
                </a:lnTo>
                <a:close/>
              </a:path>
              <a:path fill="darken" w="49689" h="21600">
                <a:moveTo>
                  <a:pt x="49689" y="0"/>
                </a:moveTo>
                <a:lnTo>
                  <a:pt x="49689" y="21600"/>
                </a:lnTo>
                <a:lnTo>
                  <a:pt x="48289" y="20200"/>
                </a:lnTo>
                <a:lnTo>
                  <a:pt x="48289" y="1400"/>
                </a:lnTo>
                <a:close/>
              </a:path>
              <a:path fill="darkenLess" w="49689" h="21600">
                <a:moveTo>
                  <a:pt x="496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289" y="20200"/>
                </a:lnTo>
                <a:close/>
              </a:path>
              <a:path fill="lighten" w="496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1" name="">
            <a:hlinkClick r:id="rId6" action="ppaction://hlinksldjump"/>
          </p:cNvPr>
          <p:cNvSpPr/>
          <p:nvPr/>
        </p:nvSpPr>
        <p:spPr>
          <a:xfrm>
            <a:off x="15228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721160" y="1716480"/>
            <a:ext cx="977760" cy="528120"/>
          </a:xfrm>
          <a:custGeom>
            <a:avLst/>
            <a:gdLst>
              <a:gd name="textAreaLeft" fmla="*/ 34200 w 977760"/>
              <a:gd name="textAreaRight" fmla="*/ 943560 w 977760"/>
              <a:gd name="textAreaTop" fmla="*/ 34200 h 528120"/>
              <a:gd name="textAreaBottom" fmla="*/ 493920 h 528120"/>
            </a:gdLst>
            <a:ahLst/>
            <a:rect l="textAreaLeft" t="textAreaTop" r="textAreaRight" b="textAreaBottom"/>
            <a:pathLst>
              <a:path w="39978" h="21600">
                <a:moveTo>
                  <a:pt x="0" y="0"/>
                </a:moveTo>
                <a:lnTo>
                  <a:pt x="39978" y="0"/>
                </a:lnTo>
                <a:lnTo>
                  <a:pt x="39978" y="21600"/>
                </a:lnTo>
                <a:lnTo>
                  <a:pt x="0" y="21600"/>
                </a:lnTo>
                <a:close/>
              </a:path>
              <a:path fill="lightenLess" w="39978" h="21600">
                <a:moveTo>
                  <a:pt x="0" y="0"/>
                </a:moveTo>
                <a:lnTo>
                  <a:pt x="39978" y="0"/>
                </a:lnTo>
                <a:lnTo>
                  <a:pt x="38578" y="1400"/>
                </a:lnTo>
                <a:lnTo>
                  <a:pt x="1400" y="1400"/>
                </a:lnTo>
                <a:close/>
              </a:path>
              <a:path fill="darken" w="39978" h="21600">
                <a:moveTo>
                  <a:pt x="39978" y="0"/>
                </a:moveTo>
                <a:lnTo>
                  <a:pt x="39978" y="21600"/>
                </a:lnTo>
                <a:lnTo>
                  <a:pt x="38578" y="20200"/>
                </a:lnTo>
                <a:lnTo>
                  <a:pt x="38578" y="1400"/>
                </a:lnTo>
                <a:close/>
              </a:path>
              <a:path fill="darkenLess" w="39978" h="21600">
                <a:moveTo>
                  <a:pt x="399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578" y="20200"/>
                </a:lnTo>
                <a:close/>
              </a:path>
              <a:path fill="lighten" w="399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Verbs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60020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60020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5228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3808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7" action="ppaction://hlinksldjump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3808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8" action="ppaction://hlinksldjump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7524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4  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04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9" action="ppaction://hlinksldjump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304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0" action="ppaction://hlinksldjump"/>
              </a:rPr>
              <a:t>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08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8288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1" action="ppaction://hlinksldjump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2" action="ppaction://hlinksldjump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3" action="ppaction://hlinksldjump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8288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2767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4" action="ppaction://hlinksldjump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276720" y="3657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5" action="ppaction://hlinksldjump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2767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6" action="ppaction://hlinksldjump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2004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7" action="ppaction://hlinksldjump"/>
              </a:rPr>
              <a:t>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0" name="">
            <a:hlinkClick r:id="rId18" action="ppaction://hlinksldjump"/>
          </p:cNvPr>
          <p:cNvSpPr/>
          <p:nvPr/>
        </p:nvSpPr>
        <p:spPr>
          <a:xfrm>
            <a:off x="32767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19" action="ppaction://hlinksldjump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1" name="">
            <a:hlinkClick r:id="rId20" action="ppaction://hlinksldjump"/>
          </p:cNvPr>
          <p:cNvSpPr/>
          <p:nvPr/>
        </p:nvSpPr>
        <p:spPr>
          <a:xfrm>
            <a:off x="48006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1" action="ppaction://hlinksldjump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80060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2" action="ppaction://hlinksldjump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8006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3" action="ppaction://hlinksldjump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4" name="">
            <a:hlinkClick r:id="rId24" action="ppaction://hlinksldjump"/>
          </p:cNvPr>
          <p:cNvSpPr/>
          <p:nvPr/>
        </p:nvSpPr>
        <p:spPr>
          <a:xfrm>
            <a:off x="49528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5" action="ppaction://hlinksldjump"/>
              </a:rPr>
              <a:t>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8006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6" action="ppaction://hlinksldjump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2485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7" action="ppaction://hlinksldjump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8" action="ppaction://hlinksldjump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3244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29" action="ppaction://hlinksldjump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324480" y="525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cc00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40080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0" action="ppaction://hlinksldjump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001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1" action="ppaction://hlinksldjump"/>
              </a:rPr>
              <a:t>1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0773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2" action="ppaction://hlinksldjump"/>
              </a:rPr>
              <a:t>2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84872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3" action="ppaction://hlinksldjump"/>
              </a:rPr>
              <a:t>3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0010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4" action="ppaction://hlinksldjump"/>
              </a:rPr>
              <a:t>4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84872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3399"/>
                </a:solidFill>
                <a:uFillTx/>
                <a:latin typeface="Times New Roman"/>
                <a:hlinkClick r:id="rId35" action="ppaction://hlinksldjump"/>
              </a:rPr>
              <a:t>5</a:t>
            </a:r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erbs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co</a:t>
            </a: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ntrast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erbs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summarize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erbs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explain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ent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 algn="ctr">
              <a:spcBef>
                <a:spcPts val="2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illustration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ent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ubheading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ent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diagram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ent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figure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5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tent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graphic organizer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ction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character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ction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etting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6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election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neral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1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ction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main idea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ction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event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Fiction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mood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try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peaker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try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tanza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try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metaphor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try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imile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Poetry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alliteration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umer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recipe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umer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utensils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neral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opinion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umer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instructions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umer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3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543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equipment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nsumer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06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4840" y="1980720"/>
            <a:ext cx="7543800" cy="40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ingredients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neral 3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effect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neral 4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3" marL="16002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conclusion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Copperplate Gothic Bold"/>
              </a:rPr>
              <a:t>Double Jeopardy</a:t>
            </a:r>
            <a:endParaRPr b="0" lang="en-US" sz="9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General 5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significance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erbs 1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describe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Verbs 2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cc00"/>
                </a:solidFill>
                <a:latin typeface="Arial Black"/>
              </a:rPr>
              <a:t>compare</a:t>
            </a:r>
            <a:endParaRPr b="0" lang="en-US" sz="8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ff8b17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cc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21:05:08Z</dcterms:created>
  <dc:creator>Craig Smith</dc:creator>
  <dc:description/>
  <dc:language>en-US</dc:language>
  <cp:lastModifiedBy>Randolph County Schools</cp:lastModifiedBy>
  <dcterms:modified xsi:type="dcterms:W3CDTF">2008-03-06T17:52:23Z</dcterms:modified>
  <cp:revision>78</cp:revision>
  <dc:subject/>
  <dc:title>Formula Jeopardy!!!</dc:title>
</cp:coreProperties>
</file>